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22D-A6CD-4BA1-96FA-5BB36616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6DA-AD11-4364-AC04-592404B0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77D-F211-4321-8D1E-917416A4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94F-D869-424C-837C-E4548495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D24-75D2-4228-A397-1C2DB506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E0E-C199-4CA0-8402-48D04E9A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6BF-6B9E-41BE-A7E7-DC91B687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194-5054-41E1-95B0-5E529F7D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781-6EA5-4091-BFE7-90543DAA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358-3E8C-4391-BC25-DA2B1686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891-BCE8-4F9F-8C50-0D186676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D0E-F06A-44BB-B424-91CB85EE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E90B-18B3-46DF-8359-6AC2F63BE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mework #1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: pg. 42-4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: pg. 259-2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What is the difference between observational learning and disinhibi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How is disinhibition used to extinguish phobi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ich of the three learning theories do you understand the best?  The least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ick up a blank half sheet of paper from the front table. Complete the Warm-Up on this p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olence on television leads to aggressive behavior by the children and teenagers who watch the programs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quote above and if you agree or disagree with the statement.  Expl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agree or disagree and be prepared to share you answ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ildren see, children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dividual observes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it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ehavior of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inhib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ee someone else engage in something “bad” without being punished.  Learn it is easier to do that behavior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the short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he following two questions on a separate sheet of paper with your partne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what you know abo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al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plain how the situation at Glenbrook North may have an impact on other high school studen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ow does the incident at Glenbrook North exemplif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inhib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429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lenbrook Nor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worst stereotype you have ever he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#13/Grade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 on half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perant 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inforcement/Punishment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When you provide negative reinforcement, it usually resul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Weakening a behavior you want weak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Strengthening a behavior you want strengthen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Do people usually look forward to receiving negative reinforcement? Wh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eld a position of authority (like a teacher or job manager) would you supply positive reinforcement to those you might manage in the future? 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Read the following two statements.  Decide which is negative reinforcement and which is punis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If you clean your room, you will no longer have to be grou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Because you did not clean your room, you will be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i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Positive reinforce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senting something desirable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r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Money for good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Negative reinforc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Taking away something you don’t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aking aspirin to get rid of a head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Beeping when you leave the head lights on. You must turn off the lights to stop the bee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Unpleasant consequence whi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behavior to occur ag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304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19112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s up homework #14, no more homework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k up your warm-up from last class on the front table. (If you did not do it, do it 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 from 5/13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olence on television leads to aggressive behavior by the children and teenagers who watch the programs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quote above and if you agree or disagree with the statement.  Expl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agree or disagree and be prepared to share you answ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ar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aby stuff here st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boo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He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uesday 5/19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Learning: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al L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dividual observ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i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ehavior of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(People of higher status have more influence on other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8520" y="3733920"/>
            <a:ext cx="2265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839440" cy="5545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ndura and Bobo Doll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9:32:39Z</dcterms:created>
  <dc:creator>Deborah Strnad</dc:creator>
  <dc:description/>
  <dc:language>en-US</dc:language>
  <cp:lastModifiedBy>Deborah Strnad</cp:lastModifiedBy>
  <dcterms:modified xsi:type="dcterms:W3CDTF">2009-05-15T17:56:43Z</dcterms:modified>
  <cp:revision>65</cp:revision>
  <dc:subject/>
  <dc:title>Learning</dc:title>
</cp:coreProperties>
</file>